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2.wmf" ContentType="image/x-wmf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FCA-A90D-4FBD-8AF9-40ADAB92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2A3-7A34-4353-A87E-456467FD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F10-ADF9-4FCB-93E5-B29DF00B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E30-B80D-4553-A428-9CB170CB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96DE-0C55-45A9-BC30-B8B93A59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4AE1-037B-41E4-9777-C72FD9B2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37B2-E004-4B0A-A263-89AE86A3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574E-A96E-46F2-907F-D1BD17B8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BFC4-A70A-418A-A566-F849526D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076F-DD66-4205-89AE-B8CFD977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F33A-B41C-4477-9359-9088A2BC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1E6-4905-45D9-8BEA-7EAC5002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6CA2-328E-41C3-8C7B-A4B74B4F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3F93-EB23-4D43-9525-E04EF6FF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A300-E4D4-45F8-9797-DBDB9206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C62D-9A90-4AD7-B9A3-6BFA9272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DE7B-F89B-4587-A036-09B075A7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68C-5D3D-4C3D-888A-B814F0F0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FB2-D56E-459C-9CBE-7E6B9BF1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4C7-BCB5-4112-942E-C61D7CC1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B00-17B0-487E-8977-A895566B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2F6-BDE6-437F-BF01-884F19A0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8B3-ACE5-4242-92CC-7D0DCE8F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8EB-93EF-40C7-9EE4-0A27943A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31DF-FB64-4799-979D-A1F76508C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8AC7-6A98-426A-B9FD-7378FF1D3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on and Velocity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se Study: ca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H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issa Far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rs That Can Mo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280" y="446724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SSC Ultimate Aero Red doors open"/>
          <p:cNvPicPr/>
          <p:nvPr/>
        </p:nvPicPr>
        <p:blipFill>
          <a:blip r:embed="rId4"/>
          <a:stretch/>
        </p:blipFill>
        <p:spPr>
          <a:xfrm>
            <a:off x="4343400" y="1523880"/>
            <a:ext cx="4343400" cy="2379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Bugatti Veyron front view driving"/>
          <p:cNvPicPr/>
          <p:nvPr/>
        </p:nvPicPr>
        <p:blipFill>
          <a:blip r:embed="rId5"/>
          <a:stretch/>
        </p:blipFill>
        <p:spPr>
          <a:xfrm>
            <a:off x="4114800" y="4191120"/>
            <a:ext cx="4343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makes a car mov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s converting electrical stored energy into kinetic e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stons and Crank Shaf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y wheel and Gear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 Sha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els and Friction on the Road: Moment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ducing Ener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so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43200" y="2057400"/>
            <a:ext cx="3381480" cy="2249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238880" y="4648320"/>
            <a:ext cx="1676520" cy="196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010280" y="2743200"/>
            <a:ext cx="1962360" cy="174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5181480" y="4800600"/>
            <a:ext cx="20098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2514600" y="480060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y Car Mode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676920" y="838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057400" y="1600200"/>
            <a:ext cx="240048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4800600" y="3124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133720" y="4876920"/>
            <a:ext cx="175248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4267080" y="1676520"/>
            <a:ext cx="2590920" cy="1885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2057400" y="3352680"/>
            <a:ext cx="2819520" cy="1838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6885000" y="2666880"/>
            <a:ext cx="2259000" cy="2608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6229440" y="5286240"/>
            <a:ext cx="2914560" cy="1571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3733920" y="5116680"/>
            <a:ext cx="2514600" cy="174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0" y="2438280"/>
            <a:ext cx="204300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enar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inois Valley Toy Car Company is looking for a new toy car design. The company wants a car that will reach the fastest velocity and that is made out of recycled material. Your job is to come up with a prototype for this compa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sential: How and why do things mo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: What is mo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: How do you measure mo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es Us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on Pro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s will be measuring the velocity of their created c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ee prototypes (one being the fin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culate velocity (change in displacement / change in time). Three trials for each prototype calculating the average for ea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llecting data and interpreting graphs from motion prob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are two sets of da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y the motion gates (not used in sandbo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ssessment Timelin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fore project work beg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KWL: gain prior knowledge along with short reading on mo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aily open-ended questions about mo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Brochure activity on specific car company. Rubric and brochure template provid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uide through rubric for car proje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roup planning sessions. Sketches along with material lis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work on projects and complete tas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aily journal of progr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hecklists for students to work through for lab report. Lab reports will be presented as an engineering work samp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Final project along with data collec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aily open-ended questions about projec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fter project work is complet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rk Samp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are data from other groups. (Maybe using wiki space to down load every work sample. Students make ask three questions, two complaints, one suggestion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vise work sampl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f assessment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aily open-ended questions about mo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ochure Checkli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90920" y="1219320"/>
            <a:ext cx="46479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tudent Sampl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brochure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693396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ochure S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8080" y="1801800"/>
            <a:ext cx="7128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62320" y="1447920"/>
            <a:ext cx="380988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rk Sample Checkli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041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55:02Z</dcterms:created>
  <dc:creator>Melissa Farmer</dc:creator>
  <dc:description/>
  <dc:language>en-US</dc:language>
  <cp:lastModifiedBy>Melissa Farmer</cp:lastModifiedBy>
  <dcterms:modified xsi:type="dcterms:W3CDTF">2010-08-06T16:21:26Z</dcterms:modified>
  <cp:revision>7</cp:revision>
  <dc:subject/>
  <dc:title>Motion</dc:title>
</cp:coreProperties>
</file>